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84E7-2ECC-45D5-9FDB-1F33BE587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8B49A-131F-4C67-AB32-641E2215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9FD4-38A2-4CF5-99A0-236067D11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E0C5-636A-4439-B4DC-D30BE0FE7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624-8AD5-4E12-87A7-E097E903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E7FC-F275-485C-B696-7C4DA0CFB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FF8-FDC4-42BB-A27C-C3145B1E1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7C33-EC95-4C9E-A215-32146B9C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0E3-3993-4039-B263-91D5C0C96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6685F-C798-405D-A730-FC94CAC6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A6A5-88A0-4E72-98E4-E87BA79D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2641-A38A-443C-B489-BE2D1B00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A31D6-E3EF-402A-BDC9-A0EFCB5F47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flexive Verb Quicksta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does each family member do in the morning? Write a sentence about what each person doe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ample: Carlos/ champ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rlos se lava la cabeza con el champ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/ toall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iguel/ jabó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niños/ pasta de dien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ú/ secador de pel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s abuelos/ despertador (alarm clock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puestas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Yo/ toall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e seco el cuerpo con la toall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iguel/ jabó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Miguel se lava con el jabó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niños/ pasta de die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Los niños se lavan los dientes con la pasta de dient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ú/ secador de pel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e  secas el pelo con el secador de pel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Los abuelos/ despertador (alarm clock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Los abuelos se despiertan con el despertado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4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8T19:35:38Z</dcterms:created>
  <dc:creator>Prine, Stephanie</dc:creator>
  <dc:description/>
  <dc:language>en-US</dc:language>
  <cp:lastModifiedBy>Prine, Stephanie</cp:lastModifiedBy>
  <dcterms:modified xsi:type="dcterms:W3CDTF">2012-09-18T19:49:38Z</dcterms:modified>
  <cp:revision>2</cp:revision>
  <dc:subject/>
  <dc:title>Reflexive Verb Quickstart</dc:title>
</cp:coreProperties>
</file>